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A7B-BDBA-4732-86F8-6A239189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F41-00AA-42F4-A8E8-15BF5FF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DFC-61A7-47D4-B95D-6C0D0170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A27-E580-47D1-AF99-2DA3AB8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0D9-D1F0-4A24-B476-677E6C8F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633-E665-4F3C-93EA-34F5DAE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DDB-60B2-4ECB-BF6F-68932B81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46-88AA-4F45-8BAC-6C20DF3D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A1C-3FAC-48B2-A5CF-C447867F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AA5-51E8-4F37-A43F-563F2B9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FB6-DEDE-4E65-91E5-5850A4E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FB-33C8-41C2-B535-F5ADC4C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S LAL 23/9/05 J.E Campa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9CA7-BCB3-4806-ADB0-5036249ADFAA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scillations des Neutrin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OPERA-LA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Programme Neutrinos sur Acc. France… 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800" y="1216080"/>
            <a:ext cx="7719840" cy="545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365120"/>
            <a:ext cx="687672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595008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RA/C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position du groupe LAL: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-P Repellin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éméritat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. Boucro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prendra sa retraite mi-2006 (nb: A. Cazes en post-doc à Frascati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ctivité principale centrée sur la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aintenanc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u code d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Tracking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ar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Électroniqu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« très robuste » d’après Y. Decla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as de propositions de thès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pour le momen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ernant le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Cornes CNG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(depuis l’évaluation CNRS de Fév. 05):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nexion Électrique Rapide acceptée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sans réserve par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ducteur Interne du Réflecteur réceptionné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onjointement par le LAL et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rne n°2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livrée non modifié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e CERN  a quelques difficultés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mettre en œuvre les modifications qu’il souhaitait effectuer sur la Corne n°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in du partenaria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ERN-IN2P3-LAL au terme d’un C.S.P le 7/10/05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Comic Sans MS"/>
              </a:rPr>
              <a:t>News d’OPERA au 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755640" y="1052640"/>
            <a:ext cx="723744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1557360"/>
            <a:ext cx="7032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aimant: 100%, 2nd en cours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00% des RPCs fonctio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2/3 du SM1 équipé de murs de Tracker + Support des 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La machine à assembler les Briques fonctionne parfaitement (production début janvier 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manipulateur de Briques opérationnel au 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78% des émulsions produites, 50% prêtes, 30% au 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Microscope Japonais a atteint la vitesse nominale (20cm</a:t>
            </a:r>
            <a:r>
              <a:rPr b="1" lang="fr-FR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/h) avec potentialité d’un fact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6 microscopes Europe ont atteint la vitess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Pb a du retard (procédure de lav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u 2nd Precisio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es 22% des émulsions restantes (réunion des Agences de Moyens prévues d’ici 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4720" y="60404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sceau Mai 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Futur « projet » en gestation: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 Détecteur MEMPHY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(20 x SuperK) au Fréjus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rix des PMTs est un facteur détermina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hotoni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sur les rangs avec une solution « petits PMTs »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lectronique Frontale associée (ANR/GIS Photon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enaires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4 I dont J. Pouthas, 1AI, 1Proj.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Ch. De La Taille, N. Seguin-Moreau, 1 P.Doc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hotonis.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art du LAL: étude de l’ASIC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de lecture (ADC/TDC compris) de 16 canaux (mi-2005 </a:t>
            </a:r>
            <a:r>
              <a:rPr b="0" lang="fr-FR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mi-2007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 l’IPNO: mécanique (immersion dans l’eau) + tests PMTs avec Photonis (déjà dans le cadre du GIP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Demande globale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ANR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hauteur de 700k€ (36mois) dont 200k€ pour PMM2 dont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50k€ pour le LAL. Si l’ANR ne répond pas 10k€ permettrait d’amorcer la pompe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D’autres labos sont intéressés: LLR, LPNHE, DAPN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253120" y="60930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MM2: PhotoMultiplicateur pour 1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lectron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: 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5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6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1"/>
              <a:endCxn id="6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8" idx="3"/>
              <a:endCxn id="5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8" idx="3"/>
              <a:endCxn id="6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4" idx="0"/>
              <a:endCxn id="6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6" idx="3"/>
            <a:endCxn id="7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7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4" idx="3"/>
            <a:endCxn id="5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040" y="61657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Mechanics &amp; PM t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Résumé des activités Osc. </a:t>
            </a:r>
            <a:r>
              <a:rPr b="0" lang="fr-FR" sz="2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sur Acc. en France…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PNL-IReS-LAPP-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JE/JB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OPERA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: K2K analyse du 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Id.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  + LPNHE + LLR: T2K-I détecteur proche à 280m approuvé  : « Accélérateur » + TPC électronique FE (flux, spectre x-sections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-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+IPNL+…: T2K-I détecteur proche à 2km non encore approuvé (2010?) mais nécessaire (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+ LAr TPC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ré-étude de grande cavité au Fréjus en cours: 4 puits de 250,000m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3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alisables (dixit société ayant construit le tunnel routier)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Comic Sans MS"/>
              </a:rPr>
              <a:t>France: GDR </a:t>
            </a:r>
            <a:r>
              <a:rPr b="1" lang="fr-FR" sz="2400" spc="-1" strike="noStrike">
                <a:solidFill>
                  <a:srgbClr val="ff66cc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fr-FR" sz="2400" spc="-1" strike="noStrike">
                <a:solidFill>
                  <a:srgbClr val="ff6600"/>
                </a:solidFill>
                <a:latin typeface="Comic Sans MS"/>
              </a:rPr>
              <a:t>Europe: BENE(CARE)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Mondial: 1 an Int. Scoping Studies: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er WS au CERN 22-24/9/05, puis KEK jan. 06, RAL avr. 06 pour présenter 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NuFact06 (US) le résultat et lancer une Design Study mondiale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64911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: 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ctions de J.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Groupes Détecteur et Accélérateur dans la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coping Studie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SuperBeam et 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Simulation des performances de physique du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PL-Fréju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Combinaison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uper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J.E) avec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M. Mezzetto) +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Th. Schwetz, M. Maltoni) pour préparer une contribution à un livre blanc Mt-Fréj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R&amp;D Électronique Mégaton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MM2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t. du C.S de Modane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qui examinera dans ce cadre l’étude d’une nouvelle cavité pour le Mt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, T2K-II:T2H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55432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83272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220500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05000"/>
            <a:ext cx="3168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252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blème principal de T2K-II est  qu’ils ne pourront pas atteindre 4MW avec une techno. cha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484280"/>
            <a:ext cx="352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860640"/>
            <a:ext cx="252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génieurs de KEK anticipent un démarrage de T2K en douc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03080" y="6021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: p 50GeV/0,75kW,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I: 4MW, HK: 20x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1800" y="638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95640" y="609300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7:34:21Z</dcterms:created>
  <dc:creator>J.E Campagne</dc:creator>
  <dc:description/>
  <dc:language>en-US</dc:language>
  <cp:lastModifiedBy>J.E Campagne</cp:lastModifiedBy>
  <dcterms:modified xsi:type="dcterms:W3CDTF">2005-09-16T08:55:48Z</dcterms:modified>
  <cp:revision>34</cp:revision>
  <dc:subject/>
  <dc:title>Osc. Neutrinos</dc:title>
</cp:coreProperties>
</file>